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75E-1B88-4B95-A711-AF03CBD9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EDA-3E62-4BB0-884F-249D3B95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881-7659-4FEC-8CBA-71154B52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1B9-FBEB-4C75-9438-423FE056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EF6C-FC05-4853-AA07-5F0FFE6D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DEA8-50BD-4CD6-B994-E3EC217C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41EE-1615-4CB2-A5E9-B18EB665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986E-AD05-4D55-A37F-8989BCB7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7464-24A5-4C22-929D-6E2A3B0C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190A-030F-4FB4-B8C2-2EBF57E4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0007-D5AA-4F9A-9B7B-5E26E92E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C66-5A58-4DA4-A0AC-8D2D10F2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F267-4A8B-461E-B0D8-A1406A36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F949-AEBA-4AD3-BCC4-E45319D9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C04B-7166-4237-AFC0-BDC0F409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7D99-62C3-4B0B-8141-1A972FAF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835C-48AA-421B-8B1D-2A13F8A3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798-7D32-4074-9056-2C8C08B8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861-BDEC-4C97-BB85-939287BF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3BC-CA9B-4ED1-A7F3-E0EB3B21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335-A2B4-48D2-9A02-7E8D6598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B85-CDBE-4C53-AB76-1622B21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6936-323E-4C5A-9835-0F8259DA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2F7-D0BD-4896-B5B0-5ABE37B8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9A0-0683-4587-806B-FCBE661AD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088D-42E1-48DE-B6F8-59901E29F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99"/>
                </a:solidFill>
                <a:latin typeface="Arial"/>
              </a:rPr>
              <a:t>Operationeel onderzoe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 u="sng">
                <a:solidFill>
                  <a:srgbClr val="99ff99"/>
                </a:solidFill>
                <a:uFillTx/>
                <a:latin typeface="Arial"/>
              </a:rPr>
              <a:t>LP-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beperkingen zo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naloog voor produkt 2 en 3 is 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,4*A2 + 1,7*B2 + 1,2*C2 + 1,1*D2 &gt;= 1,6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0,9*A3 + 1,2*B3 + 0,8*C3 + 0,6*D3 &gt;= 1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beperkingen zo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ffffff"/>
                </a:solidFill>
                <a:latin typeface="Arial"/>
              </a:rPr>
              <a:t>Verder zien we in de tabel dat er ook sprake is van een maximale jaarlijkse verkoophoeveelheid per produkt. Deze worden da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,7*A1 + 1,6*B1 + 1,3*C1 + 1,0*D1 &lt;= 7,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,4*A2 + 1,7*B2 + 1,2*C2 + 1,1*D2 &lt;= 6,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0,9*A3 + 1,2*B3 + 0,8*C3 + 0,6*D3 &lt;= 5,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beperkingen zo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De laatste 4 beperkingen gaan omtrent de grootte van onze stukken grond, zo zien we bv dat grond A  2,0 ha groot is …. Dwz dat we maximaal 2,0 ha grond kunnen bewerken op gro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De beperking luid dan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1+A2+A3&lt;= 2,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Analoog voor grond B , C en D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B1+B2+B3&lt;=1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C1+C2+C3&lt;=1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D1+D2+D3&lt;=2,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beperki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,7*A1 + 1,6*B1 + 1,3*C1 + 1,0*D1 &gt;= 1,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,7*A1 + 1,6*B1 + 1,3*C1 + 1,0*D1 &lt;= 7,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,4*A2 + 1,7*B2 + 1,2*C2 + 1,1*D2 &gt;= 1,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,4*A2 + 1,7*B2 + 1,2*C2 + 1,1*D2 &lt;= 6,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0,9*A3 + 1,2*B3 + 0,8*C3 + 0,6*D3 &gt;= 1,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0,9*A3 + 1,2*B3 + 0,8*C3 + 0,6*D3 &lt;= 5,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1 + A2 + A3 &lt;= 2,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1 + B2 + B3 &lt;= 1,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1 + C2 + C3 &lt;= 1,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1 + D2 + D3 &lt;= 2,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LOS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 tot een oplossing te komen hebben we gebruik gemaakt van het programma ST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769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6191280" cy="3200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940360" y="836640"/>
            <a:ext cx="2087640" cy="360360"/>
          </a:xfrm>
          <a:prstGeom prst="wedgeRectCallout">
            <a:avLst>
              <a:gd name="adj1" fmla="val -155097"/>
              <a:gd name="adj2" fmla="val 49625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Aantal variab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32720" y="1341360"/>
            <a:ext cx="2232000" cy="360360"/>
          </a:xfrm>
          <a:prstGeom prst="wedgeRectCallout">
            <a:avLst>
              <a:gd name="adj1" fmla="val -182504"/>
              <a:gd name="adj2" fmla="val 38127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Aantal beperk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12000" y="1989000"/>
            <a:ext cx="2232000" cy="360360"/>
          </a:xfrm>
          <a:prstGeom prst="wedgeRectCallout">
            <a:avLst>
              <a:gd name="adj1" fmla="val -157824"/>
              <a:gd name="adj2" fmla="val 27643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Min of Max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3284640"/>
            <a:ext cx="5111640" cy="215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3500280"/>
            <a:ext cx="865080" cy="1224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5640" y="5734080"/>
            <a:ext cx="1584360" cy="360360"/>
          </a:xfrm>
          <a:prstGeom prst="wedgeRectCallout">
            <a:avLst>
              <a:gd name="adj1" fmla="val -110921"/>
              <a:gd name="adj2" fmla="val -66982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variab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6021360"/>
            <a:ext cx="1584360" cy="360360"/>
          </a:xfrm>
          <a:prstGeom prst="wedgeRectCallout">
            <a:avLst>
              <a:gd name="adj1" fmla="val -105412"/>
              <a:gd name="adj2" fmla="val -58524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beperk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61960" y="2266920"/>
            <a:ext cx="6220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71680" y="2276640"/>
            <a:ext cx="620064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ecff"/>
                </a:solidFill>
                <a:latin typeface="Arial"/>
              </a:rPr>
              <a:t>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61960" y="2262240"/>
            <a:ext cx="6220080" cy="32004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724360" y="907920"/>
            <a:ext cx="2303640" cy="720720"/>
          </a:xfrm>
          <a:prstGeom prst="wedgeRectCallout">
            <a:avLst>
              <a:gd name="adj1" fmla="val -74398"/>
              <a:gd name="adj2" fmla="val 2555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Waarde voor onze variab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88000" y="5661000"/>
            <a:ext cx="2663640" cy="719280"/>
          </a:xfrm>
          <a:prstGeom prst="wedgeRectCallout">
            <a:avLst>
              <a:gd name="adj1" fmla="val -51666"/>
              <a:gd name="adj2" fmla="val -21225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Waarde voor onze doelfunc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ccecff"/>
                </a:solidFill>
                <a:latin typeface="Arial"/>
              </a:rPr>
              <a:t>Ein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Dank u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Mochten er nog vragen zijn, dan mag u die nu stel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 voorgesteld do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-  Jeroen Van Den El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Davy Van Der Eec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Joris Van Melkebe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Koen Van Campenh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ar gaan we het over hebbe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opgave : Hoe aangepak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preking doelfun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hebben we de beperkingen gevond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preking oplo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opga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ffffff"/>
                </a:solidFill>
                <a:latin typeface="Arial"/>
              </a:rPr>
              <a:t>Formuleer het probleem als een linear programmeringsprobleem, als de landbouwer de totale verkoopprijs wil maximaliser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ffffff"/>
                </a:solidFill>
                <a:latin typeface="Arial"/>
              </a:rPr>
              <a:t>Een landbouwer heeft 4 stukken grond A,B,C en D ter beschikking, waarop hij 3 soorten produkten A B en C kan verbouwen, niet ieder stuk grond is even vruchtbaar , zodat er voor de opbrengst van een produkt per stuk grond  zowel een kwaliteitsverschil als een kwantiteitsverschil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200" spc="-1" strike="noStrike">
                <a:solidFill>
                  <a:srgbClr val="ffffff"/>
                </a:solidFill>
                <a:latin typeface="Arial"/>
              </a:rPr>
              <a:t>Gegevens in de onderstaande tab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tab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209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e aangepak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- Eerst moesten we onze doelfunctie bepalen , dat zag er op het eerste zicht niet zo moeilijk uit. Het staat namelijk letterlijk in de opgave DE TOTALE VERKOOPPRIJS MAXIMALIS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- Om geen verwarring te doen ontstaan hebben we er dan voor gekozen om de namen van de variabelen anders te kiezen dan in de tabel , we kozen voor de gemakkelijkheid de namen van de produkten als 1,2 en 3 ipv ABC. Anders zou er makkelijker verwarring ontsta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e aangepak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Dus 12 variabelen A1,A2,A3,B1,B2,B3,C1,C2,C3,D1,D2,D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Omdat we moeten rekening houden met de kwaliteit en de kwantiteit van ons product moeten we beide integreren in de doelfunct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DOELFUN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x z = 1,6*1,7*A1 + 1,2*1,4*A2 + 1,8*0,9*A3 + 1,4*1,6*B1 + 1,3*1,7*B2 + 2,0*1,2*B3 + 1,7*1,3*C1 + 1,0*1,2*C2 + 2,0*0,8*C3 + 1,2*1,0*D1 + 1,1*1,1*D2 + 1,7*0,6*D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e aangepakt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Vereenvoudig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x z = 2,27*A1 + 1,68*A2 + 1,62*A3 + 2,24*B1 + 2,21*B2 + 2,40*B3 + 2,21*C1 + 1,20*C2 + 1,60*C3 + 1,20*D1 + 1,21*D2 + 1,02*D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beperkingen zoek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Eens de doelfunctie bepaald -&gt; zoeken beperk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Als je naar de tabel kijkt kun je lezen dat bv de minimaal vereiste hoeveelheid in tonnen van produkt 1 gelijk is aan 1,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Dus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,7*A1 + 1,6*B1 + 1,3*C1 + 1,0*D1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Arial"/>
              </a:rPr>
              <a:t>&gt;= 1,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4:51:31Z</dcterms:created>
  <dc:creator>Davy</dc:creator>
  <dc:description/>
  <dc:language>en-US</dc:language>
  <cp:lastModifiedBy>Davy</cp:lastModifiedBy>
  <dcterms:modified xsi:type="dcterms:W3CDTF">2003-12-17T23:00:54Z</dcterms:modified>
  <cp:revision>9</cp:revision>
  <dc:subject/>
  <dc:title>Operationeel Onderzoek</dc:title>
</cp:coreProperties>
</file>