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976-B5D4-42B7-A147-0042EE11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0A2-3724-4A15-A184-F7DBDB0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77F-E0A3-45A7-B833-D7EE4801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F33-5CEB-4398-B6C6-837A8D6F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045-EFE9-4BDE-AB45-09A6D389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54F9-4114-4F8F-98C5-54B4D47F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460-1D5E-4091-955D-5256E67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495E-A33E-4A41-9B2C-A67B0029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331-0D5A-4EE4-96FC-D0A5FEA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DB6D-DCCE-46D1-AF4B-3B36DB1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DBD9-06C8-40A0-9394-AEA8E37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EE5-46D5-42A2-9357-053299A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5DFD-8ABC-470B-BB13-0B1E841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F821-BF40-4BC2-A5D1-533EB75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A15-74F3-47F1-B2EF-AD6C39C7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E08-1F23-40C1-AE29-98489D75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63B3-C637-4938-9404-322EC04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649-465B-4D6B-BD1D-6CFE0CD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618-6987-4DB5-979D-98B142A2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327-F198-47EA-BDDA-B6018C3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F7A-C753-43DA-A9AB-D7D63813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4CD-DE20-41A5-A8A8-6EDDB38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ACB-6BFA-4E15-AE66-498CEDD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584-839A-4F14-ADAA-E68A7E0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6D9-E5AD-416B-9D7E-B06C4565354D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3D59-F2B4-471F-AF93-CCDF0B359F69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efen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ofdstuk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913F-D534-45F3-B1A8-072A8785A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686800" cy="73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het resultaat wordt weer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void paint( Graphics 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oproepen van de geërfde methode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uper.pain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het resultaat wordt weer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omtrek van de cirkel : " + omtrek, 25, 25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  // end method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  // end class Oef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35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576680"/>
            <a:ext cx="777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52F-FE38-495A-96C9-BF53A1BAD1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T IS DE UITVOER VAN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Welcome to", 25, 25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Java Programming!", 25, 25 );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Welcome to", 25, 25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Java Programming!", 25, 30 );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419-1415-4BAD-8EA5-0D775B31A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PGA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aag de nettoprijs van een artikel (in euro) en de BTW (%). Geef de brutoprijs weer op het scherm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es de straal van een cirkel in. Druk de omtrek van de cirkel af (omtrek = 2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bruik de constante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h.PI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voor de waarde van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De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lasse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h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ehoort tot de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ckage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.lang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dus we hoeven deze klasse niet te importer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782-B0DE-4901-94A3-89FC5AB75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95280"/>
            <a:ext cx="86868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/ Oefening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/ Oefening 1 Hoofdstuk 3 (theo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 java.awt.Graphics;   // importeert klass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fr-B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 javax.swing.*;       // importeert package javax.s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class Oefening extends J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uble brutoPrij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07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OPLOSSING OEFENIN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4BA-42EB-4C30-870C-C57A322E4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868680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initialisatie van de applet: waarden worden in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void in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first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second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uble nettoPr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 bt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eerste getal wordt aan de gebruiker gevraa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Number = JOptionPane.showInputDialog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Geef de nettoprijs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het tweede getal wordt aan de gebruiker gevraa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Number = JOptionPane.showInputDialog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Geef de BTW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11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576680"/>
            <a:ext cx="777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6C4-8919-4F3D-97B8-64FBCD281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8686800" cy="62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converteert getal van type String naar type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ettoPrijs = Double.parseDouble( first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converteert getal van type String naar type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tw = Integer.parseInt( second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berekening brutopr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rutoPrijs = nettoPrijs + (nettoPrijs * btw / 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16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576680"/>
            <a:ext cx="777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58C-CACA-460E-9184-07579B0C3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8686800" cy="65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het resultaat wordt weer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void paint( Graphics 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oproepen van de geërfde methode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uper.pain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het resultaat wordt weer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.drawString( "brutoprijs : " + brutoPrijs, 25, 25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  // end method 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  // end class Oef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576680"/>
            <a:ext cx="777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4A2-2857-487C-BA52-AE94AFF304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295280"/>
            <a:ext cx="868680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/ Oefening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/ Oefening 2 Hoofdstuk 3 (theo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 java.awt.Graphics;   // importeert klass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 javax.swing.*;       // importeert package javax.s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class Oefening extends JApp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uble omtrek;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26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OPLOSSING OEFENIN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BF9-4B38-4571-B53B-B516E92AA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868680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initialisatie van de applet: waarden worden inge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 void in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first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uble stra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een getal wordt aan de gebruiker gevraa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Number = JOptionPane.showInputDialog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Geef de straal van de cirkel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converteert getal van type String naar type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raal = Double.parseDouble( first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// berekening omt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trek = 2 * Math.PI * stra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javalogo52x88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pic>
        <p:nvPicPr>
          <p:cNvPr id="130" name="javalogo52x88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593640" cy="10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52480" y="747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576680"/>
            <a:ext cx="777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21A-1148-4BFC-BB9D-1480807FC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9:42:12Z</dcterms:created>
  <dc:creator>BERNARD</dc:creator>
  <dc:description/>
  <dc:language>en-US</dc:language>
  <cp:lastModifiedBy>Martine Van der Weeën</cp:lastModifiedBy>
  <dcterms:modified xsi:type="dcterms:W3CDTF">2002-10-21T08:58:29Z</dcterms:modified>
  <cp:revision>312</cp:revision>
  <dc:subject/>
  <dc:title>PowerPoint-presentatie</dc:title>
</cp:coreProperties>
</file>