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8769-744F-42BF-BC54-F5791BE68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72D7-AD92-4EA1-B4E4-91216BF8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091E-D6EA-440C-978B-DCC61E3DA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0D51-D8EB-434A-9787-C96D87D19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6C0F-2C80-4D1D-BFE9-A967B8C25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FEA5-07C7-4D2C-B77F-0BC64A2E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3BF9-D568-436F-87AB-3BF9E4F1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2E28-7488-458A-A6E6-CB6C9DF0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4200-235D-4E82-BD34-20D23FD3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DE9E-4D44-491A-8855-8CD744DD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7046-5069-41BE-B857-0EA21404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662D-4AB8-464B-AE54-F9D16E8A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0512-C83E-4D4F-A315-4229D456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8176-74E4-4E7C-907D-EE0A2131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DCA2-C40C-4C4E-847E-5A0C8480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FB01-DFC0-4941-9DD4-33C19D93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9F55-9458-42AF-B5E5-DE3D6BF54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0EEE-7E2D-4B45-AB6C-95522F2C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8C67-BEDE-45AC-9AEB-44E1192C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4B54-17BB-4163-BEF4-A9DC3C4D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E256-BE15-4F79-AF0A-A51B946B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5590-9417-4445-A9B0-D2FBD5C2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FDDD-D8D6-4B71-B786-35E5231F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3E25-ED9E-4ED6-8FF5-704A8F97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B044-8934-45CF-9596-F1725087B1C0}" type="slidenum">
              <a:rPr b="0" lang="nl-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979F-8615-4642-B13F-966E223456C7}" type="slidenum">
              <a:rPr b="0" lang="nl-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javalogo52x88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066680" y="22860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4280" y="2362320"/>
            <a:ext cx="8559720" cy="24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PLOSSING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oofdstuk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ED83-6F81-44BD-91CB-2F55217D84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javalogo52x88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066680" y="22860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4280" y="1905120"/>
            <a:ext cx="855972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public class Patro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public static void main (String args[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for (int i=1; i&lt;=10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for (int j=1; j&lt;=i; j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System.out.print (‘*’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oon a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9778-7936-4E25-A44D-F988748D9B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javalogo52x88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066680" y="22860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4280" y="1905120"/>
            <a:ext cx="855972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public class Patroon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public static void main (String args[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for (int i=1; i&lt;=10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for (int j=11-i; j&gt;=1; j-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System.out.print (‘*’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oon b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9B13-FFA5-4315-970E-C4F9B0944F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javalogo52x88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066680" y="22860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1714680"/>
            <a:ext cx="7086600" cy="51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public class Patroo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public static void main (String args[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for (int i=1; i&lt;=10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for (int j1=1; j1&lt;=i-1; j1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System.out.print (‘ ’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for (int j2=10-i; j2&gt;=1; j2-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System.out.print (‘*’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oon c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09B1-CE41-4AC7-9D65-D630DAC0DF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javalogo52x88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066680" y="22860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1714680"/>
            <a:ext cx="7086600" cy="51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public class Patro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public static void main (String args[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for (int i=1; i&lt;=10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for (int j1=10-i; j1&gt;=1; j1-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System.out.print (‘ ’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for (int j2=1; j2&lt;=i-1; j2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System.out.print (‘*’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oon d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EBD9-1391-4329-8556-E9428BCA6A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javalogo52x88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066680" y="22860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4280" y="2362320"/>
            <a:ext cx="855972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Deze code zou moeten printen of een geheel getal 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 even of oneven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switch ( value % 2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case 0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System.out.println( “Even getal”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case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System.out.println( “Oneven getal”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Vind de fout(en) in volgende stukjes code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E80D-A54B-415E-A7ED-5A24488D60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javalogo52x88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066680" y="22860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4280" y="2362320"/>
            <a:ext cx="855972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Deze code zal printen of een geheel getal 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 even of oneven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switch ( value % 2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case 0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System.out.println( “Even getal”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l-NL" sz="2000" spc="-1" strike="noStrike">
                <a:solidFill>
                  <a:srgbClr val="ff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case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System.out.println( “Oneven getal”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l-NL" sz="2000" spc="-1" strike="noStrike">
                <a:solidFill>
                  <a:srgbClr val="ff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erbeterde code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5516-7353-42BF-8F14-522BFB17D4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javalogo52x88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066680" y="22860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4280" y="2362320"/>
            <a:ext cx="8559720" cy="26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Deze code zou moeten de oneven gehele getallen van 19 tot en met 1 pri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for ( x = 19; x &gt;= 1; x += 2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System.out.println( x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Vind de fout(en) in volgende stukjes code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B3D5-21D4-4FC2-9E3C-EEC5603ECF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javalogo52x88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066680" y="22860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280" y="2362320"/>
            <a:ext cx="8559720" cy="26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Deze code zal de oneven gehele getallen van 19 tot en met 1 pri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for ( x = 19; x &gt;= 1; </a:t>
            </a:r>
            <a:r>
              <a:rPr b="1" lang="nl-NL" sz="2000" spc="-1" strike="noStrike">
                <a:solidFill>
                  <a:srgbClr val="ff0000"/>
                </a:solidFill>
                <a:latin typeface="Courier New"/>
              </a:rPr>
              <a:t>x -= 2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System.out.println( x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Verbeterde code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CE8D-3B2E-458B-8B7D-85C1C9F93C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javalogo52x88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066680" y="22860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4280" y="2057400"/>
            <a:ext cx="8559720" cy="44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public class Myst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public static void main ( String args[]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int y, x = 1, total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while ( x &lt;= 10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y = x * 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System.out.println( y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total += 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++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System.out.println ( “Total is “ + total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lke output geeft volgende applicatie?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CFBD-D7E0-4941-B81F-73150B67C4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javalogo52x88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066680" y="22860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4280" y="2057400"/>
            <a:ext cx="855972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Courier New"/>
              </a:rPr>
              <a:t>Stel: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 i = 1, j = 2, k = 3 en m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System.out.println( i == 1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System.out.println( j == 3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System.out.println( i &gt;= 1 &amp;&amp; j &lt; 4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System.out.println( m &lt;= 99 &amp; k &lt; m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System.out.println( j &gt;= i || k == m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System.out.println( k + m &lt; j | 3 – j &gt;= k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System.out.println( !( k &gt; m )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lke output geven volgende statements?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145A-9EC7-4033-AF35-CE505B906C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javalogo52x88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066680" y="22860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981080"/>
            <a:ext cx="9144000" cy="36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Courier New"/>
              </a:rPr>
              <a:t>Stel: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 i = 1, j = 2, k = 3 en m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System.out.println( i == 1 );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l-NL" sz="2000" spc="-1" strike="noStrike">
                <a:solidFill>
                  <a:srgbClr val="ff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System.out.println( j == 3 );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l-NL" sz="2000" spc="-1" strike="noStrike">
                <a:solidFill>
                  <a:srgbClr val="ff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System.out.println( i &gt;= 1 &amp;&amp; j &lt; 4 );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l-NL" sz="2000" spc="-1" strike="noStrike">
                <a:solidFill>
                  <a:srgbClr val="ff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System.out.println( m &lt;= 99 &amp; k &lt; m );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l-NL" sz="2000" spc="-1" strike="noStrike">
                <a:solidFill>
                  <a:srgbClr val="ff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System.out.println( j &gt;= i || k == m );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l-NL" sz="2000" spc="-1" strike="noStrike">
                <a:solidFill>
                  <a:srgbClr val="ff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System.out.println( k + m &lt; j | 3 – j &gt;= k );   </a:t>
            </a:r>
            <a:r>
              <a:rPr b="1" lang="nl-NL" sz="2000" spc="-1" strike="noStrike">
                <a:solidFill>
                  <a:srgbClr val="ff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System.out.println( !( k &gt; m ) );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l-NL" sz="2000" spc="-1" strike="noStrike">
                <a:solidFill>
                  <a:srgbClr val="ff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lke output geven volgende statements?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8DA4-6225-4D1B-856D-D86714391E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javalogo52x88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066680" y="22860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4280" y="1905120"/>
            <a:ext cx="8559720" cy="53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volgende patronen print, enkel gebruik makend v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System.out.print(‘*’), System.out.println(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en voor (c) en (d) ook nog System.out.print(‘ 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(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         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**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 *********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*********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        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***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  ********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********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       *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****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   *******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*******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      **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*****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    ******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******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     ***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******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     *****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*****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    ****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*******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      ****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****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   *****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********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       ***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***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  ******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*********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        **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**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 *******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***********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         *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chrijf een applicatie die…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2B22-6600-418A-B159-368CCDA2E2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17:55:34Z</dcterms:created>
  <dc:creator>Leen Vuyge</dc:creator>
  <dc:description/>
  <dc:language>en-US</dc:language>
  <cp:lastModifiedBy>Martine Van der Weeën</cp:lastModifiedBy>
  <dcterms:modified xsi:type="dcterms:W3CDTF">2002-10-28T11:18:37Z</dcterms:modified>
  <cp:revision>468</cp:revision>
  <dc:subject/>
  <dc:title>PowerPoint-presentatie</dc:title>
</cp:coreProperties>
</file>