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B29F-F862-479A-A882-500356E41E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getal1+geta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stem.out.println( "Open de map C:\\Mijn Documenten"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stem.out.println( "Volg de pijl \"Omleiding\"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stem.out.println( "Het boek voor\tJava\nis dat van\tDeitel.\nEngelstalig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+3*4 =  2 + 12 =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(2+3)*4 = 5 * 4 =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6*3/2*4 = 18/2*4 = 9*4 =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6*3/(2*4) = 6*3/8 = 18/8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6*(8%(2*3)) = 6 * (8%6) = 6*2 =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17/8+9%5-3*2 = 2+9%5-3*2 = 2+4-3*2 = 2+4-6 = 6-6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17/(8+9)%(5-3)*2 = 17/17%(5-3)*2 = 17/17%2*2 = 1%2*2 = 1*2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12/(2*8%4) = 12/(16%4) = 12/(0) </a:t>
            </a:r>
            <a:r>
              <a:rPr b="0" lang="nl-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fout: deling door n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*17/8%4 = 340/8%4 = 42%4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6B4-B03C-4106-B7E0-146BF901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977-DF11-4049-A16D-0FAA6AA1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007-2C00-45DE-AC04-CBD2F46A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9DA-D104-4306-894B-D85B9E46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35B3-6A73-4E5D-BC6F-66D49974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9B39-625D-4599-91E6-1645F14E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89B5-F440-4DF1-A084-1382408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821C-11AB-4EE4-A9F8-246F267A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37F4-3B02-4F2F-BCF2-5D3F982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A1EE-76D3-41C2-A872-C205FC4F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3F94-CEEF-47DA-8CB3-40B5ED2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63C-93E3-4FE1-8B14-2F8717FB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3C52-8372-4EFB-9719-DEACED25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7EF1-2EEE-4003-83E9-801762D8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B89A-1C66-4353-B936-DCAA6765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F456-AFD2-4A8D-B8AE-4EB17BA5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3714-C7B8-4245-96A7-83B4571A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B5F-7EF6-4AA5-BB57-C9412965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787-54D6-43A8-A9DC-85EAFC23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1B9-7160-4EED-BF86-43E7D3CA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238-425F-466F-BD1C-9DEC182C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939-9B8F-47CF-AD8A-4BA3206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023-7A51-411A-B6AF-F06799B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067-D0D6-4AF1-BE5B-5063A6F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AC7A-2013-42B7-96B1-1CF2CCBB70F9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93CB-2310-442F-AEEF-11E3D4367ED2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loss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ofdstuk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2CE7-8B19-4266-A134-3B994006AA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2133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aag 2 getallen in en geef het grootste terug op het scher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9EF-286F-439B-ADD4-78E0EA41F5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32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Oefening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het grootste getal bep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Java extension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mport javax.swing.JOptionPane;  // importeert klasse JOptionP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 class Oef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main methode start de uitvoering van Java applic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 static void main( String args[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ring firstNumber;  </a:t>
            </a: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// eerste string ingegeven door gebrui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ring secondNumber;  // tweede string ingegeven door gebrui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ring result;        // een string die de uitvoer bev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 number1;        // eerste getal om te vergelij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 number2;        // tweede getal om te vergelij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11C-F8A1-4461-8D90-30114E9C5C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212760"/>
            <a:ext cx="91440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lees eerste getal van gebruiker in als ee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irstNumb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showInputDialog( "Geef eerste getal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lees tweede getal van gebruiker in als ee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econdNumb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showInputDialog( "Geef tweede getal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converteer getallen van type String naar het type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umber1 = Integer.parseInt( first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umber2 = Integer.parseInt( second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initialiseer het  resultaat als een lege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sult = "grootste getal :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FC1-6E4D-45FE-BDBD-77C85658D5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0"/>
            <a:ext cx="9144000" cy="73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f ( number1 &gt; number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sult = result + number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f ( number1 &lt; number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sult = result + numb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Toon resulta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showMessageDialog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ull, result, "Resultaat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INFORMATION_MESSAG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ystem.exit( 0 );   // beëindigt de applic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}  // einde methode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}  // eind klasse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66D-AC12-4FA0-8FDA-7C35A8023E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raag het maandsalaris in en bereken het jaarsalaris (zonder vakantiegeld) en het vakantiegeld (=8% vh jaarsalar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66D-D81E-4C0E-9FD4-2F84A8ABD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45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Oefening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jaarsalaris en vakantieg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Java extension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mport javax.swing.JOptionPane;  // importeert klasse JOptionP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 class Oef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main methode start de uitvoering van Java applic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 static void main( String args[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ring firstNumber;   // eerste string ingegeven door gebrui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ring result;        // een string die de uitvoer bev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 maandsalaris;     // maandsa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 jaarsalaris;      // jaarsa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 vakantiegeld;     // vakantieg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317-93E7-4419-90B6-311CAA9A83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49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-152280" y="452520"/>
            <a:ext cx="9144000" cy="70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// lees eerste getal van gebruiker in als een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irstNumber =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showInputDialog( "Geef maandsalaris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// converteer getal van type String naar het type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andsalaris = Integer.parseInt( firstNumbe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jaarsalaris = maandsalaris *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sult = "jaarsalaris = " + jaarsalar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kantiegeld = jaarsalaris * 8 / 1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sult = result + "\nvakantiegeld = " + vakantiegel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DB7-BB15-4466-9CF0-1DE5ADC6C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53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" y="80028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// Toon result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JOptionPane.showMessageDialog(null, result, "Resultaat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JOptionPane.INFORMATION_MESSAG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ystem.exit( 0 );   // beëindigt de appli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}  // einde methode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}  // eind klasse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F15-0480-43E9-8A72-6B395698AC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uitvoer krijgen w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3504960"/>
            <a:ext cx="3276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getal1+getal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19708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System.out.println(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”getal1+getal2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System.out.println(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getal1 + getal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met in beide gevallen getal1=21 en getal2=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375-69ED-480C-A57F-78672AD33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krijg je volgende zinnen op het scher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pen de map C:\Mijn Docu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ystem.out.println( "Open de map C:\\Mijn Documenten" 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lg de pijl “Om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ystem.out.println( "Volg de pijl \"Omleiding\"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et boek voor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Java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is dat va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Deite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ngelstalig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ystem.out.println( "Het boek voor\tJava\nis dat van\tDeitel.\nEngelstali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600-1B5F-4B57-BC01-245E70B195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paal resultaat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2+3*4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2 + 12 =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2+3)*4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5 * 4 =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6*3/2*4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18/2*4 = 9*4 = 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6*3/(2*4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6*3/8 = 18/8 =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6*(8%(2*3)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6 * (8%6) = 6*2 =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5BD-FF6D-4A2D-BDCF-E1B2EFC8A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paal resultaat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/8+9%5-3*2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+9%5-3*2 = 2+4-3*2 = 2+4-6 = 6-6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/(8+9)%(5-3)*2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/17%(5-3)*2 = 17/17%2*2 = 1%2*2 = 1*2 =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/(2*8%4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/(16%4) = 12/(0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ut: deling door n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*17/8%4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40/8%4 = 42%4 =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92A-0FF4-4256-A77D-A9B862D89D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rijf een programma dat 2 getallen met elkaar vermenigvuldigt.  Laat de gebruiker hierbij de waarden ingev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170-C2ED-40F8-9EC1-66191679AD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0" y="0"/>
            <a:ext cx="91440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Oefening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vermenigvuldiging van twee geta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Java extension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mport javax.swing.JOptionPane;  // importeert klasse JOptionP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 class Oef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// main methode start de uitvoering van Java applic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 static void main( String args[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ring firstNumber;   // eerste string ingegeven door gebrui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ring secondNumber;  // tweede string ingegeven door gebrui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 number1;          // eerste getal om te vermenigvuld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 number2;          // tweede getal om te vermenigvuld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 verm;             // vermenigvuldiging van number1 en numb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FE3-A8B4-46F7-8FDA-6227F6758A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28600"/>
            <a:ext cx="9144000" cy="73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lees eerste getal van gebruiker in als ee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firstNumb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showInputDialog( "Geef eerste getal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lees tweede getal van gebruiker in als een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econdNumb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showInputDialog( "Geef tweede getal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converteer getallen van type String naar het type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umber1 = Integer.parseInt( first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umber2 = Integer.parseInt( second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Vermenigvuldig de get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verm = number1 * numb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850-362A-45D8-91B4-7768A35637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3640" cy="6854040"/>
            <a:chOff x="0" y="0"/>
            <a:chExt cx="9143640" cy="6854040"/>
          </a:xfrm>
        </p:grpSpPr>
        <p:sp>
          <p:nvSpPr>
            <p:cNvPr id="127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9143640" cy="6854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0" y="0"/>
            <a:ext cx="914400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/ toon de 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showMessageDialog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ull, "De vermenigvuldiging is " + verm, "Resultaat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OptionPane.PLAIN_MESSAG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ystem.exit( 0 );   // beëindigt de applic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}  // einde methode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}  // eind klasse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Oef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6AD-040D-49E8-815D-05DCC61D7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09:42:12Z</dcterms:created>
  <dc:creator>BERNARD</dc:creator>
  <dc:description/>
  <dc:language>en-US</dc:language>
  <cp:lastModifiedBy>Martine Van der Weeën</cp:lastModifiedBy>
  <dcterms:modified xsi:type="dcterms:W3CDTF">2002-10-21T08:55:58Z</dcterms:modified>
  <cp:revision>282</cp:revision>
  <dc:subject/>
  <dc:title>PowerPoint-presentatie</dc:title>
</cp:coreProperties>
</file>