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AFB8-68EC-48EA-A6DF-E934398A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89E4-8853-4A07-A498-7957909F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622A-BC24-43B4-B338-BF229712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423C-A197-4114-A85F-E22A2D6E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E698-68E8-433B-842E-19243855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5E06-EA91-4A79-8BEF-14C58366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9A61-B651-43F2-B7C9-21E5644D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0DC8-9071-444F-8B99-AE535921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F916-4F0D-40A9-AA93-AB1879E4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192A-889C-4C21-A8B2-526F2720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0C74-F7E9-4622-88B1-CAFDDF00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15CF-D26A-4F09-840E-D7A844C7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9005-C12D-4D43-8827-8DB5F14E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47F5-777A-4E55-842B-2E7E01A9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42CB-D0B3-4913-8E11-469E0611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03E4-7826-451E-995E-B172B8F6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2779-007D-4F62-891B-E9E65141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3419-B46B-4775-84F6-FA9881CA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FF15-FADB-43C9-8B73-68CD9141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016C-2A50-4991-95CC-325E5B7B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7539-3539-4BB9-AC19-D97BA59D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A98B-7588-4E4D-A125-AAC6826F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F787-1A36-4275-A48E-074F1A90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790-58F3-4D26-BB8D-EE217862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55D3-4D82-4276-94A7-194D240BE5DD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CA9F-124F-40AB-BE94-AE778E66752D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66680" y="2286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4280" y="2362320"/>
            <a:ext cx="855972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LOSSIN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ofdstuk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541A-6544-4961-9E4D-7B5E6D6AD7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66680" y="2286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4280" y="2362320"/>
            <a:ext cx="85597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if ( age &gt;= 65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System.out.println ( “Age greater than or equal to 65”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System.out.println ( “Age is less than 65 )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int x = 1, tot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while ( x &lt;= 1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total +=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++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Verbeter volgende stukjes cod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276360" y="2133720"/>
            <a:ext cx="5334120" cy="457200"/>
            <a:chOff x="3276360" y="2133720"/>
            <a:chExt cx="5334120" cy="457200"/>
          </a:xfrm>
        </p:grpSpPr>
        <p:sp>
          <p:nvSpPr>
            <p:cNvPr id="106" name=""/>
            <p:cNvSpPr/>
            <p:nvPr/>
          </p:nvSpPr>
          <p:spPr>
            <a:xfrm>
              <a:off x="6248520" y="2133720"/>
              <a:ext cx="23619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” moet w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276360" y="2362320"/>
              <a:ext cx="2971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904760" y="1600200"/>
            <a:ext cx="3810240" cy="838080"/>
            <a:chOff x="1904760" y="1600200"/>
            <a:chExt cx="3810240" cy="838080"/>
          </a:xfrm>
        </p:grpSpPr>
        <p:sp>
          <p:nvSpPr>
            <p:cNvPr id="109" name=""/>
            <p:cNvSpPr/>
            <p:nvPr/>
          </p:nvSpPr>
          <p:spPr>
            <a:xfrm>
              <a:off x="2590920" y="1600200"/>
              <a:ext cx="3124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ele “age” moet gedeclareerd en geïnitialiseerd word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904760" y="1905120"/>
              <a:ext cx="685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124080" y="4419720"/>
            <a:ext cx="3429000" cy="1037880"/>
            <a:chOff x="3124080" y="4419720"/>
            <a:chExt cx="3429000" cy="1037880"/>
          </a:xfrm>
        </p:grpSpPr>
        <p:sp>
          <p:nvSpPr>
            <p:cNvPr id="112" name=""/>
            <p:cNvSpPr/>
            <p:nvPr/>
          </p:nvSpPr>
          <p:spPr>
            <a:xfrm>
              <a:off x="4114800" y="487692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ele “total” moet geïnitialiseerd word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3124080" y="4419720"/>
              <a:ext cx="9907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F0CA-3F03-415D-9271-66FBA42434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066680" y="2286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4280" y="2362320"/>
            <a:ext cx="855972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while ( x &lt;= 10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total +=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++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while ( y &gt; 0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System.out.println( y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++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Verbeter volgende stukjes cod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048120" y="2438280"/>
            <a:ext cx="4952880" cy="580680"/>
            <a:chOff x="3048120" y="2438280"/>
            <a:chExt cx="4952880" cy="580680"/>
          </a:xfrm>
        </p:grpSpPr>
        <p:sp>
          <p:nvSpPr>
            <p:cNvPr id="119" name=""/>
            <p:cNvSpPr/>
            <p:nvPr/>
          </p:nvSpPr>
          <p:spPr>
            <a:xfrm>
              <a:off x="4343400" y="243828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elen “x” en  “total” moeten gedeclareerd en geïnitialiseerd word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048120" y="25909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361960" y="2590920"/>
            <a:ext cx="6019920" cy="1190160"/>
            <a:chOff x="2361960" y="2590920"/>
            <a:chExt cx="6019920" cy="1190160"/>
          </a:xfrm>
        </p:grpSpPr>
        <p:sp>
          <p:nvSpPr>
            <p:cNvPr id="122" name=""/>
            <p:cNvSpPr/>
            <p:nvPr/>
          </p:nvSpPr>
          <p:spPr>
            <a:xfrm>
              <a:off x="4343400" y="3200400"/>
              <a:ext cx="4038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gin- en eindaccolade van de body ontbreken anders: oneindige lu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2361960" y="3352680"/>
              <a:ext cx="19810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3580920" y="259092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191120" y="3962520"/>
            <a:ext cx="3657600" cy="1808280"/>
            <a:chOff x="4191120" y="3962520"/>
            <a:chExt cx="3657600" cy="1808280"/>
          </a:xfrm>
        </p:grpSpPr>
        <p:sp>
          <p:nvSpPr>
            <p:cNvPr id="126" name=""/>
            <p:cNvSpPr/>
            <p:nvPr/>
          </p:nvSpPr>
          <p:spPr>
            <a:xfrm>
              <a:off x="4648320" y="3962520"/>
              <a:ext cx="3200400" cy="1808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ele “y” moet gedeclareerd en geïnitialiseerd word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T OP: y moet negatief zijn, of anders creëer je een oneindige l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gatieve y zorgt er echter voor dat je nooit binnenin de lus ko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4191120" y="457164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762120" y="4800600"/>
            <a:ext cx="3657600" cy="718200"/>
            <a:chOff x="762120" y="4800600"/>
            <a:chExt cx="3657600" cy="718200"/>
          </a:xfrm>
        </p:grpSpPr>
        <p:sp>
          <p:nvSpPr>
            <p:cNvPr id="129" name=""/>
            <p:cNvSpPr/>
            <p:nvPr/>
          </p:nvSpPr>
          <p:spPr>
            <a:xfrm>
              <a:off x="762120" y="5181480"/>
              <a:ext cx="3657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indaccolade van de body ontbreek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2285640" y="480060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55F0-2DC5-423E-9DB4-0D8874C072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66680" y="2286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4280" y="2057400"/>
            <a:ext cx="855972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public class Myst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public static void main ( String args[]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int y, x = 1, total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while ( x &lt;= 10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y = x *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System.out.println( y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total += 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++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System.out.println ( “Total is “ + total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lke output geeft volgende applicatie?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2133720"/>
            <a:ext cx="1828800" cy="363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ahoma"/>
              </a:rPr>
              <a:t>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ahoma"/>
              </a:rPr>
              <a:t>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Tahoma"/>
              </a:rPr>
              <a:t>Total is 3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9B1-72C8-4F69-B338-2614333BF6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066680" y="2286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133720"/>
            <a:ext cx="856008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public class Myster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public static void main ( String args[]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int count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while ( count &lt;= 1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count % 2 == 1 ? “****” : “++++++++”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++cou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lke output geeft volgende applicatie?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1828800"/>
            <a:ext cx="2057400" cy="294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++++++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++++++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++++++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++++++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++++++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3DA4-82BB-438D-8C74-016454224C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066680" y="2286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4280" y="2057400"/>
            <a:ext cx="855972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via een lus volgende tabel met waarden afdru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10*N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100*N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1000*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200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400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4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500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lai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lai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lai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drie gehele getallen, verschillend van 0, inleest, en bepaalt of deze de zijden van een rechthoekige driehoek zouden kunnen voorstel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hrijf een applicatie die…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3F3-7460-4741-9456-3F62D509C9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066680" y="2286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2116080"/>
            <a:ext cx="861048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public class Ta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public static void main (String args[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int n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System.out.println ("N\t10*N\t100*N\t1000*N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while (n &lt;= 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System.out.println (n + "\t" + n*10 + "\t" + n*1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+ "\t" +n*10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n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licatie 1: Tab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BEE-6286-4B8A-BA9D-5783A5A716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6680" y="2286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2116080"/>
            <a:ext cx="861048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import javax.swing.JOptionPan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public class Th_Oef_H4_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public static void main (String args[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String getal1, getal2, getal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int g1, g2, g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getal1 = JOptionPane.showInputDialog("Geef een geheel getal, " 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+ "verschillend van 0: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getal2 = JOptionPane.showInputDialog("Geef een geheel getal, " 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+ "verschillend van 0: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getal3 = JOptionPane.showInputDialog("Geef een geheel getal, " 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+ "verschillend van 0: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licatie 2: Driehoek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8DA0-1341-4A13-B3A9-5FD58C6A8C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66680" y="2286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1828800"/>
            <a:ext cx="8610480" cy="51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g1 = Integer.parseInt(getal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g2 = Integer.parseInt(getal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g3 = Integer.parseInt(getal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if (g1*g1 == g2*g2 + g3*g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System.out.println ("Deze drie getallen kunnen de zijden zijn" 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+ "van een rechthoekige driehoek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else if (g2*g2 == g1*g1 + g3*g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System.out.println ("Deze drie getallen kunnen de zijden zijn" 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+ "van een rechthoekige driehoek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else if (g3*g3 == g1*g1 + g2*g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System.out.println ("Deze drie getallen kunnen de zijden zijn" 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+ "van een rechthoekige driehoek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System.out.println ("Deze drie getallen kunnen NIET de zijden" 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+ "zijn van een rechthoekige driehoek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licatie 2: Driehoek (vervolg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C32C-6ECC-4250-A1DD-D0954A8C0F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7:55:34Z</dcterms:created>
  <dc:creator>Leen Vuyge</dc:creator>
  <dc:description/>
  <dc:language>en-US</dc:language>
  <cp:lastModifiedBy>Martine Van der Weeën</cp:lastModifiedBy>
  <dcterms:modified xsi:type="dcterms:W3CDTF">2002-10-28T11:14:43Z</dcterms:modified>
  <cp:revision>365</cp:revision>
  <dc:subject/>
  <dc:title>PowerPoint-presentatie</dc:title>
</cp:coreProperties>
</file>