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5F0-1091-4834-9630-1A700CBF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485-E80F-4218-852D-5A3C6030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5A8C-1EB9-42C1-867A-CC5C8A9D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0E1-3D59-4A5C-BB90-83828B4D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E75-CC0B-4196-8CCF-5782C2CC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73F9-A011-439C-A7C4-D66AE0F1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6400-D62D-4AF9-8919-CA26F29F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84B9-A0B7-4971-BB18-9694355A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5AF-31DD-48A9-8111-B2357838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21AD-3AFB-4F27-A567-F18701F8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F6D-3AA5-4C52-BCCD-D3658CD7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BE4C-9531-4416-A9B1-5034A82A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5066-87AA-440E-91DB-7B7AB4D58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14400" y="6094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EFENINGEN : HOOFDSTUK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7600" y="2000160"/>
            <a:ext cx="180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16160"/>
            <a:ext cx="1683864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Maak een klasse Do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000000"/>
                </a:solidFill>
                <a:uFillTx/>
                <a:latin typeface="Tahoma"/>
              </a:rPr>
              <a:t>Members:</a:t>
            </a: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 lengte, breedte en hoogte (dou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000000"/>
                </a:solidFill>
                <a:uFillTx/>
                <a:latin typeface="Tahoma"/>
              </a:rPr>
              <a:t>Functies:</a:t>
            </a: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setDoos() met 3 parameters, die gecontroleerd moeten worden 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geldigheid (&gt; 0) ; indien niet geldig, geef de member de waarde 1.0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Functie inhoud() om de inhoud van een doos te bep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De functie toString herdefiniëren voor deze klasse; de string moet zow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de attributen als de inhoud van de doos beva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14400" y="6094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EF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7600" y="2000160"/>
            <a:ext cx="180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0880" y="2590920"/>
            <a:ext cx="883548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Voeg get- en set-functies voor de members van de klasse Rechthoek to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De set-functies controleren de waarden op geldighe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De attributen moeten tussen 0 en 20 (beide inbegrepen) lig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Is dit niet het geval, dan worden deze default op 1.0 gez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Pas eveneens de constructor met twee parameters aan en voeg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default-constructor to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14400" y="6094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LO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7600" y="2000160"/>
            <a:ext cx="180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2320" y="2057400"/>
            <a:ext cx="856296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class 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Rechtho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{  private double lengt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, 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eedt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ublic 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Rechthoek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setLengt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 1.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set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eedt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 1.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 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ublic 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Rechthoek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double 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eLengt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, double 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eBreedt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setLengt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 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Lengt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set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eedt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 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eedt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14400" y="6094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LO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7600" y="2000160"/>
            <a:ext cx="180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057400"/>
            <a:ext cx="845820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ublic void setLengt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 double 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Lengt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lengt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= ( 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Lengt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&gt; 0.0 &amp;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Lengt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&lt; 20.0 ? 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Lengt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: 1.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ublic void set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eedt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 double 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eBreedt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eedt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= ( 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eBreedt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&gt; 0 &amp;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eBreedt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&lt; 20.0 ? 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eBreedt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: 1.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14400" y="6094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LO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7600" y="2000160"/>
            <a:ext cx="180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2057400"/>
            <a:ext cx="84582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ublic double getLengt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return lengt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ublic double get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eedt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return </a:t>
            </a: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eedte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6094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LO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7600" y="2000160"/>
            <a:ext cx="180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216160"/>
            <a:ext cx="168386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class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Doos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private double lengt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,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breedte, hoog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public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setDoos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( double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deLeng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, double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deBreedte, double deHoog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  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l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engt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e = (d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eLengt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e &gt; 0 ? deLengte:1.0)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  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breedte = (d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e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Breedte &gt; 0 ? deBreedte:1.0)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  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hoogte = (deHoogte &gt; 0? deHoogte:1.0);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public double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inhoud(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return lengt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*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breedte * hoog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public String toString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 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return ( " Lengt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: " + lengt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+ "\n" +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"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Breed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: " +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breed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+ "\n" +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"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Hoog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: " +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hoog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+ "\n" +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Inhoud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: " +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inhoud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()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14400" y="6094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EF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7600" y="2000160"/>
            <a:ext cx="180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2209680"/>
            <a:ext cx="16838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Maak een klasse Rechtho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000000"/>
                </a:solidFill>
                <a:uFillTx/>
                <a:latin typeface="Tahoma"/>
              </a:rPr>
              <a:t>Members:</a:t>
            </a: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 breedte en hoogte (dou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000000"/>
                </a:solidFill>
                <a:uFillTx/>
                <a:latin typeface="Tahoma"/>
              </a:rPr>
              <a:t>Functies:</a:t>
            </a: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constructor met 2 parameter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Functie om de oppervlakte te bep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Functie om de omtrek te bep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De functie toString herdefiniëren voor deze klasse; de string moet zow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de attributen als de omtrek en de oppervlakte beva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Voeg in de klasse Doos een constructor toe, die gebruik maakt van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reeds aanwezige setdoos()-funct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6094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LOSSINGEN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7600" y="2000160"/>
            <a:ext cx="180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0640" y="1905120"/>
            <a:ext cx="79045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class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Rec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h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t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hoek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private double lengt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,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breed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public Rec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h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t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hoek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( double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deLeng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, double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deBreed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  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l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engt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e = d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eLengt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  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breedte = d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e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Breed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public double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omtrek(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return 2 * lengt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+ 2 *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breed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public double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oppervlak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return lengt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*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breed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public String toString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 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return ( " Lengt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: " + lengt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+ "\n" +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"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Breed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: " +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breed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+ "\n" +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"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Omtrek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: " +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omtrek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+ "\n" + "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Oppervlak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: " +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oppervlak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()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14400" y="6094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LOSSINGEN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7600" y="2000160"/>
            <a:ext cx="180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5960" y="1905120"/>
            <a:ext cx="808848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class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Doos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private double lengt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,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breedte, hoog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 </a:t>
            </a:r>
            <a:r>
              <a:rPr b="1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public Doos (</a:t>
            </a:r>
            <a:r>
              <a:rPr b="1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double </a:t>
            </a:r>
            <a:r>
              <a:rPr b="1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l</a:t>
            </a:r>
            <a:r>
              <a:rPr b="1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, double </a:t>
            </a:r>
            <a:r>
              <a:rPr b="1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b, double h</a:t>
            </a:r>
            <a:r>
              <a:rPr b="1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1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1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setDoos(l,b,h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1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public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setDoos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( double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deLeng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, double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deBreedte, double deHoog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  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l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engt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e = (d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eLengt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e &gt; 0 ? deLengte:1.0)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  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breedte = (d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e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Breedte &gt; 0 ? deBreedte:1.0)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  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hoogte = (deHoogte &gt; 0? deHoogte:1.0);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public double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inhoud(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return lengt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*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breedte * hoog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public String toString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{       return ( " Lengt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: " + lengt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+ "\n" +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"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Breed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: " +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breed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+ "\n" +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"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Hoog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: " +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hoog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+ "\n" +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Inhoud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: " +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inhoud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()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14400" y="6094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EF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600" y="2000160"/>
            <a:ext cx="180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60480" y="2209680"/>
            <a:ext cx="9192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Maak een klasse Comple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000000"/>
                </a:solidFill>
                <a:uFillTx/>
                <a:latin typeface="Tahoma"/>
              </a:rPr>
              <a:t>Members:</a:t>
            </a: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 real en imaginair (double) (real + imaginair *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000000"/>
                </a:solidFill>
                <a:uFillTx/>
                <a:latin typeface="Tahoma"/>
              </a:rPr>
              <a:t>Functies:</a:t>
            </a: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default-constructor (real = imaginair =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constructor met één parameter (imaginair =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constructor met 2 parameter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Functie om de optelling van 2 complexe getallen te bep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Functie om de aftrekking van 2 complexe getallen te bep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De functie toString herdefiniëren voor deze klasse; de string moet h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complex getal als volgt weergeven: (real,imaginai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Voeg in de klasse Doos een default-constructor toe, die gebruik maak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ahoma"/>
              </a:rPr>
              <a:t>van de reeds aanwezige constructor en die alle members op 1.0 z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14400" y="6094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LOSSINGEN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7600" y="2000160"/>
            <a:ext cx="180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7520" y="2085840"/>
            <a:ext cx="69015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lass Com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private double re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private double imagina</a:t>
            </a:r>
            <a:r>
              <a:rPr b="0" lang="fr-BE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i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fr-BE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p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ublic Complex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this( 0.0, 0.0 );</a:t>
            </a:r>
            <a:r>
              <a:rPr b="0" lang="fr-BE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// aanroep constructor met 2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public Complex( double r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this( r, 0.0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public Complex( double r, double i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real = 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imaginary =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6094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LOSSINGEN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7600" y="2000160"/>
            <a:ext cx="180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35800" y="2362320"/>
            <a:ext cx="63680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// </a:t>
            </a:r>
            <a:r>
              <a:rPr b="1" lang="fr-BE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Optelling van 2 complexe 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public Complex </a:t>
            </a:r>
            <a:r>
              <a:rPr b="0" lang="fr-BE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optelling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( Complex right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return new Complex( real + right.rea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imagina</a:t>
            </a:r>
            <a:r>
              <a:rPr b="0" lang="fr-BE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i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r + right.imagina</a:t>
            </a:r>
            <a:r>
              <a:rPr b="0" lang="fr-BE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i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r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// </a:t>
            </a:r>
            <a:r>
              <a:rPr b="1" lang="fr-BE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Aftrekking van 2 complexe 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public Complex </a:t>
            </a:r>
            <a:r>
              <a:rPr b="0" lang="fr-BE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aftrekking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( Complex right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return new Complex( real - right.rea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imagina</a:t>
            </a:r>
            <a:r>
              <a:rPr b="0" lang="fr-BE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i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r - right.imagina</a:t>
            </a:r>
            <a:r>
              <a:rPr b="0" lang="fr-BE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i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r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/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/ </a:t>
            </a:r>
            <a:r>
              <a:rPr b="1" lang="fr-BE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Geeft de Stringrepresentatie weer van een complex ge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public String toString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{ return "(" + real + ", " + imagina</a:t>
            </a:r>
            <a:r>
              <a:rPr b="0" lang="fr-BE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i</a:t>
            </a: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r + ")"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14400" y="6094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LOSSINGEN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7600" y="2000160"/>
            <a:ext cx="180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0880" y="1873080"/>
            <a:ext cx="63194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class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Doos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private double lengt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,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breedte, hoog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 </a:t>
            </a:r>
            <a:r>
              <a:rPr b="1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public Doo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1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1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this(1.0,1.0,1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1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 </a:t>
            </a:r>
            <a:r>
              <a:rPr b="1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public Doos (</a:t>
            </a:r>
            <a:r>
              <a:rPr b="1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double </a:t>
            </a:r>
            <a:r>
              <a:rPr b="1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l</a:t>
            </a:r>
            <a:r>
              <a:rPr b="1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, double </a:t>
            </a:r>
            <a:r>
              <a:rPr b="1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b, double h</a:t>
            </a:r>
            <a:r>
              <a:rPr b="1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1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1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setDoos(l,b,h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1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public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setDoos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( double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deLeng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, double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deBreedte, double deHoogte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  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l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engt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e = (d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eLengt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e &gt; 0 ? deLengte:1.0)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  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breedte = (d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e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Breedte &gt; 0 ? deBreedte:1.0)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  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hoogte = (deHoogte &gt; 0? deHoogte:1.0);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   </a:t>
            </a:r>
            <a:r>
              <a:rPr b="0" lang="fr-BE" sz="1400" spc="-1" strike="noStrike">
                <a:solidFill>
                  <a:srgbClr val="000000"/>
                </a:solidFill>
                <a:latin typeface="Tahoma"/>
                <a:ea typeface="MS Mincho"/>
              </a:rPr>
              <a:t>// 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  <a:ea typeface="MS Mincho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20:14:50Z</dcterms:created>
  <dc:creator>Sonia Vandermeersch</dc:creator>
  <dc:description/>
  <dc:language>en-US</dc:language>
  <cp:lastModifiedBy>Martine Van der Weeën</cp:lastModifiedBy>
  <dcterms:modified xsi:type="dcterms:W3CDTF">2002-12-19T10:49:53Z</dcterms:modified>
  <cp:revision>3</cp:revision>
  <dc:subject/>
  <dc:title>PowerPoint-presentatie</dc:title>
</cp:coreProperties>
</file>